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9C90-5FA7-4707-9643-1BCD8C050A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A358D-6DF2-45E7-9FA5-4C56008A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7A386-62C6-4344-A019-CE8A3D42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F01E1-C958-426C-B5DB-ECF80E9C06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2E39F-501F-4E93-A0F9-0704259B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344C4-CF69-4CBE-9F3F-1C04CAA2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A927D-D354-4E89-A60C-26B196A2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6F02D-9B08-44D3-B84D-FD0CFF82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0D46-FA1A-4BD4-9745-F0F7420C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9FB5A-9964-4B3F-A2FF-1BDC2340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8DAF-2B13-411E-9BFB-AC78D42F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E22CF-52E9-4EC6-9526-0AA44D45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2132-B48D-4F2C-8B0D-D7A81CD12A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基本结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39560" y="19256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ore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核酸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→ 基因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ome  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定病毒遗传、变异和复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286760" y="2000160"/>
            <a:ext cx="1523880" cy="1143000"/>
          </a:xfrm>
          <a:custGeom>
            <a:avLst/>
            <a:gdLst/>
            <a:ahLst/>
            <a:rect l="l" t="t" r="r" b="b"/>
            <a:pathLst>
              <a:path w="1054" h="707">
                <a:moveTo>
                  <a:pt x="221" y="116"/>
                </a:moveTo>
                <a:cubicBezTo>
                  <a:pt x="168" y="135"/>
                  <a:pt x="112" y="135"/>
                  <a:pt x="59" y="154"/>
                </a:cubicBezTo>
                <a:cubicBezTo>
                  <a:pt x="0" y="211"/>
                  <a:pt x="13" y="179"/>
                  <a:pt x="34" y="291"/>
                </a:cubicBezTo>
                <a:cubicBezTo>
                  <a:pt x="54" y="395"/>
                  <a:pt x="57" y="426"/>
                  <a:pt x="134" y="492"/>
                </a:cubicBezTo>
                <a:cubicBezTo>
                  <a:pt x="152" y="507"/>
                  <a:pt x="163" y="531"/>
                  <a:pt x="184" y="542"/>
                </a:cubicBezTo>
                <a:cubicBezTo>
                  <a:pt x="198" y="550"/>
                  <a:pt x="363" y="590"/>
                  <a:pt x="372" y="592"/>
                </a:cubicBezTo>
                <a:cubicBezTo>
                  <a:pt x="393" y="588"/>
                  <a:pt x="415" y="588"/>
                  <a:pt x="434" y="579"/>
                </a:cubicBezTo>
                <a:cubicBezTo>
                  <a:pt x="470" y="561"/>
                  <a:pt x="509" y="467"/>
                  <a:pt x="522" y="429"/>
                </a:cubicBezTo>
                <a:cubicBezTo>
                  <a:pt x="512" y="319"/>
                  <a:pt x="528" y="214"/>
                  <a:pt x="422" y="154"/>
                </a:cubicBezTo>
                <a:cubicBezTo>
                  <a:pt x="405" y="144"/>
                  <a:pt x="349" y="133"/>
                  <a:pt x="334" y="129"/>
                </a:cubicBezTo>
                <a:cubicBezTo>
                  <a:pt x="288" y="133"/>
                  <a:pt x="242" y="134"/>
                  <a:pt x="196" y="141"/>
                </a:cubicBezTo>
                <a:cubicBezTo>
                  <a:pt x="183" y="143"/>
                  <a:pt x="168" y="145"/>
                  <a:pt x="159" y="154"/>
                </a:cubicBezTo>
                <a:cubicBezTo>
                  <a:pt x="138" y="175"/>
                  <a:pt x="109" y="229"/>
                  <a:pt x="109" y="229"/>
                </a:cubicBezTo>
                <a:cubicBezTo>
                  <a:pt x="94" y="288"/>
                  <a:pt x="103" y="433"/>
                  <a:pt x="171" y="467"/>
                </a:cubicBezTo>
                <a:cubicBezTo>
                  <a:pt x="215" y="489"/>
                  <a:pt x="309" y="517"/>
                  <a:pt x="309" y="517"/>
                </a:cubicBezTo>
                <a:cubicBezTo>
                  <a:pt x="380" y="513"/>
                  <a:pt x="451" y="511"/>
                  <a:pt x="522" y="504"/>
                </a:cubicBezTo>
                <a:cubicBezTo>
                  <a:pt x="535" y="503"/>
                  <a:pt x="551" y="501"/>
                  <a:pt x="560" y="492"/>
                </a:cubicBezTo>
                <a:cubicBezTo>
                  <a:pt x="569" y="483"/>
                  <a:pt x="566" y="466"/>
                  <a:pt x="572" y="454"/>
                </a:cubicBezTo>
                <a:cubicBezTo>
                  <a:pt x="595" y="408"/>
                  <a:pt x="610" y="381"/>
                  <a:pt x="622" y="329"/>
                </a:cubicBezTo>
                <a:cubicBezTo>
                  <a:pt x="614" y="267"/>
                  <a:pt x="617" y="204"/>
                  <a:pt x="560" y="166"/>
                </a:cubicBezTo>
                <a:cubicBezTo>
                  <a:pt x="553" y="161"/>
                  <a:pt x="474" y="142"/>
                  <a:pt x="472" y="141"/>
                </a:cubicBezTo>
                <a:cubicBezTo>
                  <a:pt x="401" y="145"/>
                  <a:pt x="330" y="147"/>
                  <a:pt x="259" y="154"/>
                </a:cubicBezTo>
                <a:cubicBezTo>
                  <a:pt x="246" y="155"/>
                  <a:pt x="229" y="156"/>
                  <a:pt x="221" y="166"/>
                </a:cubicBezTo>
                <a:cubicBezTo>
                  <a:pt x="210" y="179"/>
                  <a:pt x="213" y="199"/>
                  <a:pt x="209" y="216"/>
                </a:cubicBezTo>
                <a:cubicBezTo>
                  <a:pt x="212" y="244"/>
                  <a:pt x="220" y="400"/>
                  <a:pt x="259" y="429"/>
                </a:cubicBezTo>
                <a:cubicBezTo>
                  <a:pt x="280" y="444"/>
                  <a:pt x="412" y="483"/>
                  <a:pt x="447" y="492"/>
                </a:cubicBezTo>
                <a:cubicBezTo>
                  <a:pt x="480" y="500"/>
                  <a:pt x="514" y="509"/>
                  <a:pt x="547" y="517"/>
                </a:cubicBezTo>
                <a:cubicBezTo>
                  <a:pt x="564" y="521"/>
                  <a:pt x="597" y="529"/>
                  <a:pt x="597" y="529"/>
                </a:cubicBezTo>
                <a:cubicBezTo>
                  <a:pt x="643" y="523"/>
                  <a:pt x="698" y="533"/>
                  <a:pt x="735" y="504"/>
                </a:cubicBezTo>
                <a:cubicBezTo>
                  <a:pt x="747" y="495"/>
                  <a:pt x="749" y="478"/>
                  <a:pt x="760" y="467"/>
                </a:cubicBezTo>
                <a:cubicBezTo>
                  <a:pt x="771" y="456"/>
                  <a:pt x="785" y="450"/>
                  <a:pt x="797" y="442"/>
                </a:cubicBezTo>
                <a:cubicBezTo>
                  <a:pt x="801" y="429"/>
                  <a:pt x="804" y="416"/>
                  <a:pt x="810" y="404"/>
                </a:cubicBezTo>
                <a:cubicBezTo>
                  <a:pt x="817" y="390"/>
                  <a:pt x="835" y="381"/>
                  <a:pt x="835" y="366"/>
                </a:cubicBezTo>
                <a:cubicBezTo>
                  <a:pt x="835" y="340"/>
                  <a:pt x="818" y="316"/>
                  <a:pt x="810" y="291"/>
                </a:cubicBezTo>
                <a:cubicBezTo>
                  <a:pt x="802" y="266"/>
                  <a:pt x="804" y="235"/>
                  <a:pt x="785" y="216"/>
                </a:cubicBezTo>
                <a:cubicBezTo>
                  <a:pt x="731" y="161"/>
                  <a:pt x="657" y="140"/>
                  <a:pt x="585" y="129"/>
                </a:cubicBezTo>
                <a:cubicBezTo>
                  <a:pt x="476" y="141"/>
                  <a:pt x="465" y="134"/>
                  <a:pt x="397" y="204"/>
                </a:cubicBezTo>
                <a:cubicBezTo>
                  <a:pt x="372" y="274"/>
                  <a:pt x="372" y="369"/>
                  <a:pt x="422" y="429"/>
                </a:cubicBezTo>
                <a:cubicBezTo>
                  <a:pt x="443" y="454"/>
                  <a:pt x="474" y="469"/>
                  <a:pt x="497" y="492"/>
                </a:cubicBezTo>
                <a:cubicBezTo>
                  <a:pt x="604" y="484"/>
                  <a:pt x="680" y="513"/>
                  <a:pt x="735" y="429"/>
                </a:cubicBezTo>
                <a:cubicBezTo>
                  <a:pt x="776" y="301"/>
                  <a:pt x="711" y="492"/>
                  <a:pt x="772" y="354"/>
                </a:cubicBezTo>
                <a:cubicBezTo>
                  <a:pt x="783" y="330"/>
                  <a:pt x="797" y="279"/>
                  <a:pt x="797" y="279"/>
                </a:cubicBezTo>
                <a:cubicBezTo>
                  <a:pt x="790" y="237"/>
                  <a:pt x="785" y="136"/>
                  <a:pt x="747" y="104"/>
                </a:cubicBezTo>
                <a:cubicBezTo>
                  <a:pt x="734" y="93"/>
                  <a:pt x="713" y="96"/>
                  <a:pt x="697" y="91"/>
                </a:cubicBezTo>
                <a:cubicBezTo>
                  <a:pt x="647" y="76"/>
                  <a:pt x="599" y="64"/>
                  <a:pt x="547" y="53"/>
                </a:cubicBezTo>
                <a:cubicBezTo>
                  <a:pt x="478" y="62"/>
                  <a:pt x="434" y="69"/>
                  <a:pt x="372" y="91"/>
                </a:cubicBezTo>
                <a:cubicBezTo>
                  <a:pt x="355" y="116"/>
                  <a:pt x="332" y="137"/>
                  <a:pt x="322" y="166"/>
                </a:cubicBezTo>
                <a:cubicBezTo>
                  <a:pt x="314" y="191"/>
                  <a:pt x="297" y="241"/>
                  <a:pt x="297" y="241"/>
                </a:cubicBezTo>
                <a:cubicBezTo>
                  <a:pt x="307" y="353"/>
                  <a:pt x="291" y="439"/>
                  <a:pt x="397" y="492"/>
                </a:cubicBezTo>
                <a:cubicBezTo>
                  <a:pt x="450" y="570"/>
                  <a:pt x="384" y="492"/>
                  <a:pt x="497" y="542"/>
                </a:cubicBezTo>
                <a:cubicBezTo>
                  <a:pt x="513" y="549"/>
                  <a:pt x="520" y="569"/>
                  <a:pt x="535" y="579"/>
                </a:cubicBezTo>
                <a:cubicBezTo>
                  <a:pt x="549" y="588"/>
                  <a:pt x="611" y="601"/>
                  <a:pt x="622" y="604"/>
                </a:cubicBezTo>
                <a:cubicBezTo>
                  <a:pt x="692" y="587"/>
                  <a:pt x="761" y="594"/>
                  <a:pt x="823" y="554"/>
                </a:cubicBezTo>
                <a:cubicBezTo>
                  <a:pt x="850" y="500"/>
                  <a:pt x="876" y="442"/>
                  <a:pt x="910" y="392"/>
                </a:cubicBezTo>
                <a:cubicBezTo>
                  <a:pt x="898" y="276"/>
                  <a:pt x="891" y="208"/>
                  <a:pt x="810" y="129"/>
                </a:cubicBezTo>
                <a:cubicBezTo>
                  <a:pt x="803" y="130"/>
                  <a:pt x="725" y="142"/>
                  <a:pt x="710" y="154"/>
                </a:cubicBezTo>
                <a:cubicBezTo>
                  <a:pt x="678" y="180"/>
                  <a:pt x="660" y="266"/>
                  <a:pt x="660" y="266"/>
                </a:cubicBezTo>
                <a:cubicBezTo>
                  <a:pt x="676" y="402"/>
                  <a:pt x="696" y="553"/>
                  <a:pt x="848" y="592"/>
                </a:cubicBezTo>
                <a:cubicBezTo>
                  <a:pt x="849" y="592"/>
                  <a:pt x="960" y="579"/>
                  <a:pt x="973" y="567"/>
                </a:cubicBezTo>
                <a:cubicBezTo>
                  <a:pt x="994" y="546"/>
                  <a:pt x="1023" y="492"/>
                  <a:pt x="1023" y="492"/>
                </a:cubicBezTo>
                <a:cubicBezTo>
                  <a:pt x="1054" y="393"/>
                  <a:pt x="1043" y="302"/>
                  <a:pt x="1010" y="204"/>
                </a:cubicBezTo>
                <a:cubicBezTo>
                  <a:pt x="999" y="172"/>
                  <a:pt x="999" y="155"/>
                  <a:pt x="973" y="129"/>
                </a:cubicBezTo>
                <a:cubicBezTo>
                  <a:pt x="962" y="118"/>
                  <a:pt x="946" y="114"/>
                  <a:pt x="935" y="104"/>
                </a:cubicBezTo>
                <a:cubicBezTo>
                  <a:pt x="913" y="85"/>
                  <a:pt x="901" y="50"/>
                  <a:pt x="873" y="41"/>
                </a:cubicBezTo>
                <a:cubicBezTo>
                  <a:pt x="848" y="33"/>
                  <a:pt x="797" y="16"/>
                  <a:pt x="797" y="16"/>
                </a:cubicBezTo>
                <a:cubicBezTo>
                  <a:pt x="679" y="25"/>
                  <a:pt x="593" y="30"/>
                  <a:pt x="484" y="66"/>
                </a:cubicBezTo>
                <a:cubicBezTo>
                  <a:pt x="438" y="81"/>
                  <a:pt x="456" y="75"/>
                  <a:pt x="409" y="91"/>
                </a:cubicBezTo>
                <a:cubicBezTo>
                  <a:pt x="397" y="95"/>
                  <a:pt x="372" y="104"/>
                  <a:pt x="372" y="104"/>
                </a:cubicBezTo>
                <a:cubicBezTo>
                  <a:pt x="302" y="56"/>
                  <a:pt x="240" y="67"/>
                  <a:pt x="159" y="78"/>
                </a:cubicBezTo>
                <a:cubicBezTo>
                  <a:pt x="103" y="136"/>
                  <a:pt x="99" y="214"/>
                  <a:pt x="184" y="241"/>
                </a:cubicBezTo>
                <a:cubicBezTo>
                  <a:pt x="330" y="228"/>
                  <a:pt x="309" y="244"/>
                  <a:pt x="397" y="166"/>
                </a:cubicBezTo>
                <a:cubicBezTo>
                  <a:pt x="423" y="143"/>
                  <a:pt x="472" y="91"/>
                  <a:pt x="472" y="91"/>
                </a:cubicBezTo>
                <a:cubicBezTo>
                  <a:pt x="476" y="78"/>
                  <a:pt x="489" y="65"/>
                  <a:pt x="484" y="53"/>
                </a:cubicBezTo>
                <a:cubicBezTo>
                  <a:pt x="463" y="0"/>
                  <a:pt x="307" y="58"/>
                  <a:pt x="284" y="66"/>
                </a:cubicBezTo>
                <a:cubicBezTo>
                  <a:pt x="259" y="74"/>
                  <a:pt x="209" y="91"/>
                  <a:pt x="209" y="91"/>
                </a:cubicBezTo>
                <a:cubicBezTo>
                  <a:pt x="191" y="118"/>
                  <a:pt x="162" y="138"/>
                  <a:pt x="146" y="166"/>
                </a:cubicBezTo>
                <a:cubicBezTo>
                  <a:pt x="137" y="181"/>
                  <a:pt x="139" y="200"/>
                  <a:pt x="134" y="216"/>
                </a:cubicBezTo>
                <a:cubicBezTo>
                  <a:pt x="127" y="241"/>
                  <a:pt x="109" y="291"/>
                  <a:pt x="109" y="291"/>
                </a:cubicBezTo>
                <a:cubicBezTo>
                  <a:pt x="117" y="362"/>
                  <a:pt x="109" y="489"/>
                  <a:pt x="146" y="554"/>
                </a:cubicBezTo>
                <a:cubicBezTo>
                  <a:pt x="155" y="570"/>
                  <a:pt x="172" y="578"/>
                  <a:pt x="184" y="592"/>
                </a:cubicBezTo>
                <a:cubicBezTo>
                  <a:pt x="194" y="603"/>
                  <a:pt x="197" y="620"/>
                  <a:pt x="209" y="629"/>
                </a:cubicBezTo>
                <a:cubicBezTo>
                  <a:pt x="246" y="658"/>
                  <a:pt x="301" y="648"/>
                  <a:pt x="347" y="654"/>
                </a:cubicBezTo>
                <a:cubicBezTo>
                  <a:pt x="497" y="707"/>
                  <a:pt x="594" y="698"/>
                  <a:pt x="672" y="579"/>
                </a:cubicBezTo>
                <a:cubicBezTo>
                  <a:pt x="648" y="480"/>
                  <a:pt x="606" y="519"/>
                  <a:pt x="497" y="529"/>
                </a:cubicBezTo>
                <a:cubicBezTo>
                  <a:pt x="489" y="542"/>
                  <a:pt x="479" y="553"/>
                  <a:pt x="472" y="567"/>
                </a:cubicBezTo>
                <a:cubicBezTo>
                  <a:pt x="419" y="671"/>
                  <a:pt x="548" y="659"/>
                  <a:pt x="610" y="667"/>
                </a:cubicBezTo>
                <a:cubicBezTo>
                  <a:pt x="684" y="657"/>
                  <a:pt x="736" y="658"/>
                  <a:pt x="797" y="617"/>
                </a:cubicBezTo>
                <a:cubicBezTo>
                  <a:pt x="812" y="573"/>
                  <a:pt x="800" y="588"/>
                  <a:pt x="823" y="56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Box 97"/>
          <p:cNvSpPr/>
          <p:nvPr/>
        </p:nvSpPr>
        <p:spPr>
          <a:xfrm>
            <a:off x="571680" y="32860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其中单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病毒根据病毒复制过程中核酸能否作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m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分为正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和负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500040" y="467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壳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omer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i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、介导病毒感染、抗原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7419960" y="4786200"/>
            <a:ext cx="1295280" cy="1219320"/>
            <a:chOff x="7419960" y="4786200"/>
            <a:chExt cx="1295280" cy="1219320"/>
          </a:xfrm>
        </p:grpSpPr>
        <p:sp>
          <p:nvSpPr>
            <p:cNvPr id="235" name="Oval 5"/>
            <p:cNvSpPr/>
            <p:nvPr/>
          </p:nvSpPr>
          <p:spPr>
            <a:xfrm>
              <a:off x="8608680" y="53211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572320" y="545328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8508600" y="5576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8451720" y="56908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8380080" y="58150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8265960" y="588204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815940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804816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9358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8152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701120" y="58672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27680" y="576720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558200" y="56512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486560" y="55468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7429680" y="54147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7493040" y="5172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7549920" y="504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7621200" y="49334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705440" y="481932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8120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25"/>
            <p:cNvSpPr/>
            <p:nvPr/>
          </p:nvSpPr>
          <p:spPr>
            <a:xfrm>
              <a:off x="79164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26"/>
            <p:cNvSpPr/>
            <p:nvPr/>
          </p:nvSpPr>
          <p:spPr>
            <a:xfrm>
              <a:off x="80229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27"/>
            <p:cNvSpPr/>
            <p:nvPr/>
          </p:nvSpPr>
          <p:spPr>
            <a:xfrm>
              <a:off x="8245080" y="4793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28"/>
            <p:cNvSpPr/>
            <p:nvPr/>
          </p:nvSpPr>
          <p:spPr>
            <a:xfrm>
              <a:off x="8345160" y="486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Oval 29"/>
            <p:cNvSpPr/>
            <p:nvPr/>
          </p:nvSpPr>
          <p:spPr>
            <a:xfrm>
              <a:off x="8416800" y="495144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30"/>
            <p:cNvSpPr/>
            <p:nvPr/>
          </p:nvSpPr>
          <p:spPr>
            <a:xfrm>
              <a:off x="8486640" y="5073480"/>
              <a:ext cx="10764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31"/>
            <p:cNvSpPr/>
            <p:nvPr/>
          </p:nvSpPr>
          <p:spPr>
            <a:xfrm>
              <a:off x="8558280" y="51976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7419960" y="5280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81327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衣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160" y="1839960"/>
            <a:ext cx="49798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包裹在病毒核酸外的蛋白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壳粒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Capsomere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基本结构单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衣壳主要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种对称形式：螺旋对 称、二十面体对称和复合对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有免疫原性和抗原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裸病毒体衣壳蛋白能与易感细胞膜上的受体特异结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保护核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7" name="Picture 4" descr="icosahydral"/>
          <p:cNvPicPr/>
          <p:nvPr/>
        </p:nvPicPr>
        <p:blipFill>
          <a:blip r:embed="rId1"/>
          <a:srcRect l="0" t="4449" r="0" b="6654"/>
          <a:stretch/>
        </p:blipFill>
        <p:spPr>
          <a:xfrm>
            <a:off x="2500200" y="39290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0680" y="5127480"/>
            <a:ext cx="233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二十面体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Polyhedr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139840" y="5661000"/>
            <a:ext cx="38268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7" descr="helical structure"/>
          <p:cNvPicPr/>
          <p:nvPr/>
        </p:nvPicPr>
        <p:blipFill>
          <a:blip r:embed="rId2"/>
          <a:srcRect l="10012" t="3339" r="10557" b="4644"/>
          <a:stretch/>
        </p:blipFill>
        <p:spPr>
          <a:xfrm>
            <a:off x="5276880" y="5214960"/>
            <a:ext cx="874800" cy="1125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>
            <a:lum contrast="6000"/>
          </a:blip>
          <a:srcRect l="30583" t="21307" r="22363" b="44076"/>
          <a:stretch/>
        </p:blipFill>
        <p:spPr>
          <a:xfrm>
            <a:off x="6300720" y="5445000"/>
            <a:ext cx="576360" cy="844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 flipH="1">
            <a:off x="7066800" y="5357880"/>
            <a:ext cx="18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螺旋对称病毒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lic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6849720" y="5877000"/>
            <a:ext cx="27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1" descr="Untitled-4"/>
          <p:cNvPicPr/>
          <p:nvPr/>
        </p:nvPicPr>
        <p:blipFill>
          <a:blip r:embed="rId4"/>
          <a:srcRect l="27027" t="5403" r="28593" b="2704"/>
          <a:stretch/>
        </p:blipFill>
        <p:spPr>
          <a:xfrm>
            <a:off x="6929280" y="1401840"/>
            <a:ext cx="2060640" cy="3598920"/>
          </a:xfrm>
          <a:prstGeom prst="rect">
            <a:avLst/>
          </a:prstGeom>
          <a:ln w="0">
            <a:noFill/>
          </a:ln>
        </p:spPr>
      </p:pic>
      <p:sp>
        <p:nvSpPr>
          <p:cNvPr id="275" name="Line 12"/>
          <p:cNvSpPr/>
          <p:nvPr/>
        </p:nvSpPr>
        <p:spPr>
          <a:xfrm>
            <a:off x="7215120" y="2565360"/>
            <a:ext cx="392040" cy="18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5113080" y="184464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复合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Complex 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黑体"/>
              </a:rPr>
              <a:t>（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ad-tail viru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包膜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1980720"/>
            <a:ext cx="621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包裹在病毒核衣壳外，由宿主细胞的脂质双层膜和病毒的（糖）蛋白刺突构成的脂蛋白外膜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从宿主细胞“出芽”获得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对脂溶剂、干、热、酸敏感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刺突蛋白有免疫原性，可用于区分病毒的种、型、亚型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表面蛋白可与宿主细胞膜受体结合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可保护病毒核衣壳，与病毒感染性、致病性、免疫性有关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2" descr="13-07a_HelicalCapsid_U2"/>
          <p:cNvPicPr/>
          <p:nvPr/>
        </p:nvPicPr>
        <p:blipFill>
          <a:blip r:embed="rId1"/>
          <a:srcRect l="839" t="3080" r="49390" b="12398"/>
          <a:stretch/>
        </p:blipFill>
        <p:spPr>
          <a:xfrm>
            <a:off x="5942160" y="2060640"/>
            <a:ext cx="3058920" cy="2852640"/>
          </a:xfrm>
          <a:prstGeom prst="rect">
            <a:avLst/>
          </a:prstGeom>
          <a:ln w="0">
            <a:noFill/>
          </a:ln>
        </p:spPr>
      </p:pic>
      <p:sp>
        <p:nvSpPr>
          <p:cNvPr id="281" name="Line 3"/>
          <p:cNvSpPr/>
          <p:nvPr/>
        </p:nvSpPr>
        <p:spPr>
          <a:xfrm flipV="1">
            <a:off x="6373800" y="3573360"/>
            <a:ext cx="144360" cy="194328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 flipH="1" flipV="1">
            <a:off x="6878160" y="3716280"/>
            <a:ext cx="1079640" cy="1728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1328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刺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56320" y="528624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包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感病毒结构示意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Picture 20" descr=""/>
          <p:cNvPicPr/>
          <p:nvPr/>
        </p:nvPicPr>
        <p:blipFill>
          <a:blip r:embed="rId1"/>
          <a:stretch/>
        </p:blipFill>
        <p:spPr>
          <a:xfrm>
            <a:off x="324000" y="1962000"/>
            <a:ext cx="85928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复制与复制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840" y="190980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病毒在细胞内由病毒基因组引导合成病毒核酸、蛋白质及其它病毒结构成分，在宿主细胞质内或核内装配成熟，释放到细胞外的增殖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周期 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 cyc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从病毒体侵入细胞到子代病毒体生成释放，称为一个复制周期，包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吸附、穿入、脱壳、生物合成和装配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增殖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068920" y="2071800"/>
            <a:ext cx="555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sor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感染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netr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病毒进入到细胞内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脱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o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进入隐蔽期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物合成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iosynthes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核酸的复制，蛋白质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装、成熟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emble, mature and 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1768320" y="2425680"/>
          <a:ext cx="5232600" cy="392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425680"/>
                    <a:ext cx="5232600" cy="392436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4"/>
          <p:cNvGrpSpPr/>
          <p:nvPr/>
        </p:nvGrpSpPr>
        <p:grpSpPr>
          <a:xfrm>
            <a:off x="1643040" y="928800"/>
            <a:ext cx="5886360" cy="1383120"/>
            <a:chOff x="1643040" y="928800"/>
            <a:chExt cx="5886360" cy="1383120"/>
          </a:xfrm>
        </p:grpSpPr>
        <p:sp>
          <p:nvSpPr>
            <p:cNvPr id="298" name="Rectangle 5"/>
            <p:cNvSpPr/>
            <p:nvPr/>
          </p:nvSpPr>
          <p:spPr>
            <a:xfrm>
              <a:off x="5243400" y="1529280"/>
              <a:ext cx="697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2754360" y="15282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D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0" name="Object 7"/>
            <p:cNvGraphicFramePr/>
            <p:nvPr/>
          </p:nvGraphicFramePr>
          <p:xfrm>
            <a:off x="2244600" y="1239840"/>
            <a:ext cx="1167840" cy="93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460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8"/>
            <p:cNvSpPr/>
            <p:nvPr/>
          </p:nvSpPr>
          <p:spPr>
            <a:xfrm>
              <a:off x="1643040" y="1500480"/>
              <a:ext cx="7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639240" y="1703160"/>
              <a:ext cx="8366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271120" y="1528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  <a:ea typeface="黑体"/>
                </a:rPr>
                <a:t>R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364212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6" name="Object 12"/>
            <p:cNvGraphicFramePr/>
            <p:nvPr/>
          </p:nvGraphicFramePr>
          <p:xfrm>
            <a:off x="4546080" y="1239840"/>
            <a:ext cx="116784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608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Line 13"/>
            <p:cNvSpPr/>
            <p:nvPr/>
          </p:nvSpPr>
          <p:spPr>
            <a:xfrm>
              <a:off x="6010560" y="1703160"/>
              <a:ext cx="69696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6891480" y="1529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蛋白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592920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翻译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 flipH="1">
              <a:off x="3639240" y="1876680"/>
              <a:ext cx="766800" cy="0"/>
            </a:xfrm>
            <a:prstGeom prst="line">
              <a:avLst/>
            </a:prstGeom>
            <a:ln w="57240">
              <a:solidFill>
                <a:srgbClr val="ddb5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3706560" y="1913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逆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4714560" y="92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4" name="TextBox 21"/>
          <p:cNvSpPr/>
          <p:nvPr/>
        </p:nvSpPr>
        <p:spPr>
          <a:xfrm>
            <a:off x="437760" y="70524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类型病毒转录翻译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异常增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980720"/>
            <a:ext cx="8610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顿挫感染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abortive infection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某些病毒感染非容纳细胞后，因宿主细胞不能为病毒复制提供全部必需物质，故不能产生完整的病毒体，或产生的病毒成分不能正常组装，这种感染称为顿挫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缺陷病毒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fective virus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基因组不完整的病毒体，称为缺陷病毒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efective viru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缺陷病毒本身不能复制，但却能干扰同种成熟病毒体进入细胞或在细胞内增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干扰现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971520" y="1930320"/>
            <a:ext cx="10875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种病毒感染同一细胞或机体时，常常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种病毒抑制另一种病毒的复制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757240" y="3371760"/>
            <a:ext cx="3243600" cy="1263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 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424400" y="502776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间的干扰现象可终止感染，使机体康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理使用疫苗，避免干扰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化因素对病毒的影响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335400" y="1785960"/>
            <a:ext cx="276984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灭活（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宋体"/>
              </a:rPr>
              <a:t>disinfection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病毒在体内受到物理、化学因素作用后失去感染性，称为灭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、物理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温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酸碱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、化学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脂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化学消毒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其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和病毒体的定义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249984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us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是体积微小，结构简单，必须生长在活细胞中，借助电子显微镜才能观察到的非细胞型微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体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结构完整的、成熟的具有感染性的病毒颗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57120" y="2286000"/>
            <a:ext cx="82296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效波长范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理：使同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链上相邻的两个胸腺嘧啶共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合而形成二聚体，干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复制与转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空气及物体表面的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紫外线灭活病毒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00080" y="22860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化剂：过氧化氢、过氧乙酸、高锰酸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金属盐类：硝酸银、红汞、硫柳汞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酚类：石炭酸、来苏、洗必泰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醇类：浓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乙醇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烷化剂：杀菌力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醛、环氧乙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28840" y="10000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化学消毒剂种类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分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宿主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动物病毒、植物病毒、真菌病毒、细菌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入侵部位、传播途径及所致疾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：呼吸道、肠道、肝炎、虫媒、嗜神经、经皮肤粘膜传播及肿瘤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核酸类型和包膜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双股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有或无包膜、复合对称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 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    双股 、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、有或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负股、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亚病毒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8120" y="2000160"/>
          <a:ext cx="8832960" cy="3946680"/>
        </p:xfrm>
        <a:graphic>
          <a:graphicData uri="http://schemas.openxmlformats.org/drawingml/2006/table">
            <a:tbl>
              <a:tblPr/>
              <a:tblGrid>
                <a:gridCol w="1536840"/>
                <a:gridCol w="1150920"/>
                <a:gridCol w="1792440"/>
                <a:gridCol w="1803240"/>
                <a:gridCol w="254952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亚病毒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核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类病毒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viroid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植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具高度二级结构抗降解，在细胞核或叶绿体内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卫星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satellite virus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负链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、动植物、真菌、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在细胞质中复制，需辅助病毒，卫星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s-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朊蛋白或朊病毒或朊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ion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酶抗性蛋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和动物，引起大脑海绵样病变，疯牛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细胞朊蛋白同源异构体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1982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年由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usiner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发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2214720"/>
            <a:ext cx="86108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有哪些基本特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体由哪些结构和化学物质组成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衣壳有何生物学作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包膜及刺突有何生物学意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以何种方式增殖？病毒的增殖方式与细菌有何不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的复制周期可分为哪些阶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基本特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840" y="2285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是一种非细胞型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个体微小，可通过除菌滤器，电子显微镜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结构简单，由蛋白质和核酸组成，只有一种核酸（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），无完整的细胞结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在活细胞内存活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以复制方式繁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对抗生素不敏感，干扰素可抑制病毒增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其它微生物的区别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28760" y="2071800"/>
          <a:ext cx="830412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3041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人类的关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2643120"/>
            <a:ext cx="861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传染性强。如流感、病毒性肝炎、艾滋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死率高，或后遗症严重。如狂犬病、脊髓灰质炎、乙型脑炎、出血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持续感染。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B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C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与肿瘤的形成、自身免疫性疾病发生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结构简单，还是基因工程中重要的载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大小与形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2214360"/>
            <a:ext cx="861084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研究病毒形态方法有：电子显微镜技术、超速离心技术、分级超过滤技术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线晶体衍射技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大小差异悬殊。一般在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20~250nm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形态具有多样性。多数为球形和近似球形，少数为子弹形、砖块形。噬菌体为蝌蚪形。植物病毒多数为杆状。多数病毒形态较固定，有些具有多形性。如流感病毒可球形、丝状、杆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09680" y="1057320"/>
            <a:ext cx="6019560" cy="56386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262240" y="1089000"/>
            <a:ext cx="2133720" cy="18288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678040" y="1244520"/>
            <a:ext cx="1295640" cy="129564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24560" y="2809800"/>
            <a:ext cx="990360" cy="763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119240" y="2809800"/>
            <a:ext cx="533520" cy="228600"/>
          </a:xfrm>
          <a:prstGeom prst="hexagon">
            <a:avLst>
              <a:gd name="adj" fmla="val 58346"/>
              <a:gd name="vf" fmla="val 115470"/>
            </a:avLst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76440" y="2886120"/>
            <a:ext cx="3049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042920" y="4029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33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033640" y="50958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ff66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176640" y="555300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548240" y="5095800"/>
            <a:ext cx="228600" cy="152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5005440" y="3800520"/>
            <a:ext cx="68580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490840" y="410544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433440" y="3648240"/>
            <a:ext cx="22860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86120" y="3648240"/>
            <a:ext cx="2514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643120" y="3286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葡萄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00nm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1308240" y="2901960"/>
            <a:ext cx="60120" cy="20520"/>
          </a:xfrm>
          <a:custGeom>
            <a:avLst/>
            <a:gdLst>
              <a:gd name="textAreaLeft" fmla="*/ 0 w 60120"/>
              <a:gd name="textAreaRight" fmla="*/ 60480 w 601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13" y="4"/>
                  <a:pt x="38" y="13"/>
                  <a:pt x="38" y="13"/>
                </a:cubicBezTo>
                <a:cubicBezTo>
                  <a:pt x="38" y="13"/>
                  <a:pt x="13" y="4"/>
                  <a:pt x="0" y="0"/>
                </a:cubicBez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1368360" y="2901960"/>
            <a:ext cx="138240" cy="41400"/>
          </a:xfrm>
          <a:custGeom>
            <a:avLst/>
            <a:gdLst>
              <a:gd name="textAreaLeft" fmla="*/ 0 w 138240"/>
              <a:gd name="textAreaRight" fmla="*/ 13824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7" h="26">
                <a:moveTo>
                  <a:pt x="0" y="0"/>
                </a:moveTo>
                <a:cubicBezTo>
                  <a:pt x="3" y="1"/>
                  <a:pt x="72" y="26"/>
                  <a:pt x="75" y="25"/>
                </a:cubicBezTo>
                <a:cubicBezTo>
                  <a:pt x="84" y="23"/>
                  <a:pt x="83" y="8"/>
                  <a:pt x="87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216080" y="4221000"/>
            <a:ext cx="260280" cy="271800"/>
          </a:xfrm>
          <a:custGeom>
            <a:avLst/>
            <a:gdLst>
              <a:gd name="textAreaLeft" fmla="*/ 0 w 260280"/>
              <a:gd name="textAreaRight" fmla="*/ 260640 w 26028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64" h="171">
                <a:moveTo>
                  <a:pt x="45" y="33"/>
                </a:moveTo>
                <a:cubicBezTo>
                  <a:pt x="25" y="96"/>
                  <a:pt x="37" y="126"/>
                  <a:pt x="83" y="171"/>
                </a:cubicBezTo>
                <a:cubicBezTo>
                  <a:pt x="84" y="171"/>
                  <a:pt x="157" y="148"/>
                  <a:pt x="158" y="146"/>
                </a:cubicBezTo>
                <a:cubicBezTo>
                  <a:pt x="164" y="134"/>
                  <a:pt x="150" y="121"/>
                  <a:pt x="146" y="109"/>
                </a:cubicBezTo>
                <a:cubicBezTo>
                  <a:pt x="79" y="153"/>
                  <a:pt x="121" y="138"/>
                  <a:pt x="121" y="84"/>
                </a:cubicBezTo>
                <a:cubicBezTo>
                  <a:pt x="121" y="71"/>
                  <a:pt x="112" y="59"/>
                  <a:pt x="108" y="46"/>
                </a:cubicBezTo>
                <a:cubicBezTo>
                  <a:pt x="90" y="103"/>
                  <a:pt x="78" y="107"/>
                  <a:pt x="20" y="121"/>
                </a:cubicBezTo>
                <a:cubicBezTo>
                  <a:pt x="0" y="61"/>
                  <a:pt x="13" y="53"/>
                  <a:pt x="70" y="33"/>
                </a:cubicBezTo>
                <a:cubicBezTo>
                  <a:pt x="74" y="50"/>
                  <a:pt x="69" y="74"/>
                  <a:pt x="83" y="84"/>
                </a:cubicBezTo>
                <a:cubicBezTo>
                  <a:pt x="95" y="93"/>
                  <a:pt x="154" y="49"/>
                  <a:pt x="158" y="46"/>
                </a:cubicBezTo>
                <a:cubicBezTo>
                  <a:pt x="143" y="0"/>
                  <a:pt x="159" y="8"/>
                  <a:pt x="121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122560" y="5227560"/>
            <a:ext cx="218880" cy="60480"/>
          </a:xfrm>
          <a:custGeom>
            <a:avLst/>
            <a:gdLst>
              <a:gd name="textAreaLeft" fmla="*/ 0 w 218880"/>
              <a:gd name="textAreaRight" fmla="*/ 219240 w 218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8" h="38">
                <a:moveTo>
                  <a:pt x="0" y="13"/>
                </a:moveTo>
                <a:cubicBezTo>
                  <a:pt x="13" y="17"/>
                  <a:pt x="25" y="26"/>
                  <a:pt x="38" y="26"/>
                </a:cubicBezTo>
                <a:cubicBezTo>
                  <a:pt x="55" y="26"/>
                  <a:pt x="71" y="11"/>
                  <a:pt x="88" y="13"/>
                </a:cubicBezTo>
                <a:cubicBezTo>
                  <a:pt x="103" y="15"/>
                  <a:pt x="113" y="30"/>
                  <a:pt x="126" y="38"/>
                </a:cubicBezTo>
                <a:cubicBezTo>
                  <a:pt x="130" y="25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52960" y="5629320"/>
            <a:ext cx="22860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3295800" y="5745240"/>
            <a:ext cx="139680" cy="20520"/>
          </a:xfrm>
          <a:custGeom>
            <a:avLst/>
            <a:gdLst>
              <a:gd name="textAreaLeft" fmla="*/ 0 w 139680"/>
              <a:gd name="textAreaRight" fmla="*/ 140040 w 139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" h="13">
                <a:moveTo>
                  <a:pt x="0" y="0"/>
                </a:moveTo>
                <a:cubicBezTo>
                  <a:pt x="13" y="4"/>
                  <a:pt x="25" y="13"/>
                  <a:pt x="38" y="13"/>
                </a:cubicBezTo>
                <a:cubicBezTo>
                  <a:pt x="55" y="13"/>
                  <a:pt x="88" y="0"/>
                  <a:pt x="88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35400" y="5726160"/>
            <a:ext cx="42840" cy="119160"/>
          </a:xfrm>
          <a:custGeom>
            <a:avLst/>
            <a:gdLst>
              <a:gd name="textAreaLeft" fmla="*/ 0 w 42840"/>
              <a:gd name="textAreaRight" fmla="*/ 43200 w 42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7" h="75">
                <a:moveTo>
                  <a:pt x="13" y="0"/>
                </a:moveTo>
                <a:cubicBezTo>
                  <a:pt x="17" y="12"/>
                  <a:pt x="27" y="24"/>
                  <a:pt x="25" y="37"/>
                </a:cubicBezTo>
                <a:cubicBezTo>
                  <a:pt x="22" y="52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5203800" y="3976560"/>
            <a:ext cx="338040" cy="368280"/>
          </a:xfrm>
          <a:custGeom>
            <a:avLst/>
            <a:gdLst>
              <a:gd name="textAreaLeft" fmla="*/ 0 w 338040"/>
              <a:gd name="textAreaRight" fmla="*/ 338400 w 33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3" h="232">
                <a:moveTo>
                  <a:pt x="75" y="62"/>
                </a:moveTo>
                <a:cubicBezTo>
                  <a:pt x="63" y="58"/>
                  <a:pt x="50" y="44"/>
                  <a:pt x="38" y="50"/>
                </a:cubicBezTo>
                <a:cubicBezTo>
                  <a:pt x="26" y="56"/>
                  <a:pt x="31" y="75"/>
                  <a:pt x="25" y="87"/>
                </a:cubicBezTo>
                <a:cubicBezTo>
                  <a:pt x="18" y="101"/>
                  <a:pt x="8" y="112"/>
                  <a:pt x="0" y="125"/>
                </a:cubicBezTo>
                <a:cubicBezTo>
                  <a:pt x="8" y="137"/>
                  <a:pt x="11" y="158"/>
                  <a:pt x="25" y="162"/>
                </a:cubicBezTo>
                <a:cubicBezTo>
                  <a:pt x="94" y="179"/>
                  <a:pt x="99" y="152"/>
                  <a:pt x="125" y="112"/>
                </a:cubicBezTo>
                <a:cubicBezTo>
                  <a:pt x="109" y="62"/>
                  <a:pt x="88" y="41"/>
                  <a:pt x="38" y="25"/>
                </a:cubicBezTo>
                <a:cubicBezTo>
                  <a:pt x="88" y="59"/>
                  <a:pt x="142" y="73"/>
                  <a:pt x="201" y="87"/>
                </a:cubicBezTo>
                <a:cubicBezTo>
                  <a:pt x="197" y="120"/>
                  <a:pt x="197" y="155"/>
                  <a:pt x="188" y="187"/>
                </a:cubicBezTo>
                <a:cubicBezTo>
                  <a:pt x="184" y="202"/>
                  <a:pt x="178" y="222"/>
                  <a:pt x="163" y="225"/>
                </a:cubicBezTo>
                <a:cubicBezTo>
                  <a:pt x="130" y="232"/>
                  <a:pt x="96" y="216"/>
                  <a:pt x="63" y="212"/>
                </a:cubicBezTo>
                <a:cubicBezTo>
                  <a:pt x="108" y="146"/>
                  <a:pt x="129" y="149"/>
                  <a:pt x="213" y="137"/>
                </a:cubicBezTo>
                <a:cubicBezTo>
                  <a:pt x="201" y="60"/>
                  <a:pt x="213" y="41"/>
                  <a:pt x="150" y="0"/>
                </a:cubicBezTo>
                <a:cubicBezTo>
                  <a:pt x="139" y="17"/>
                  <a:pt x="103" y="109"/>
                  <a:pt x="75" y="100"/>
                </a:cubicBezTo>
                <a:cubicBezTo>
                  <a:pt x="63" y="96"/>
                  <a:pt x="75" y="75"/>
                  <a:pt x="75" y="6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490840" y="425772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牛痘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00×2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19240" y="296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19556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2033640" y="540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481560" y="578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700520" y="517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5691240" y="3952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853160" y="288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410000" y="1951200"/>
            <a:ext cx="144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立克次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4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6"/>
          <p:cNvSpPr/>
          <p:nvPr/>
        </p:nvSpPr>
        <p:spPr>
          <a:xfrm flipH="1">
            <a:off x="4167360" y="2048040"/>
            <a:ext cx="3045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2143080" y="1971720"/>
            <a:ext cx="1109880" cy="331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143000" y="18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衣原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9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691240" y="134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大肠杆菌噬菌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65 nm×95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6286680" y="2028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腺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7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519960" y="2743200"/>
            <a:ext cx="248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、脊髓灰质炎病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(30nm )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6553080" y="34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D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乙脑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4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553080" y="4243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蛋白分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641016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流感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10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5981760" y="581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烟草花叶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905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</a:t>
            </a: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化学成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843280" y="16858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核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15160" y="2333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结构蛋白质（衣壳、刺突、基质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79960" y="47671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890960" y="6078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6280" y="39178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非结构蛋白（酶、抑制细胞生物合成的蛋白等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3228840" y="3125880"/>
            <a:ext cx="2310120" cy="25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89400" y="3270240"/>
            <a:ext cx="1989000" cy="22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90640" y="3808440"/>
            <a:ext cx="1584360" cy="1155600"/>
          </a:xfrm>
          <a:prstGeom prst="hexagon">
            <a:avLst>
              <a:gd name="adj" fmla="val 34276"/>
              <a:gd name="vf" fmla="val 115470"/>
            </a:avLst>
          </a:prstGeom>
          <a:solidFill>
            <a:srgbClr val="ffdebd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383000" y="290988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62880" y="2989440"/>
            <a:ext cx="73440" cy="203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4723920" y="2993040"/>
            <a:ext cx="91440" cy="1958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630960" y="3135960"/>
            <a:ext cx="91440" cy="1972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5033520" y="3142080"/>
            <a:ext cx="113760" cy="185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270760" y="3463560"/>
            <a:ext cx="154800" cy="116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350880" y="3420360"/>
            <a:ext cx="142200" cy="129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4448160" y="564660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 flipH="1">
            <a:off x="5454720" y="3821400"/>
            <a:ext cx="189720" cy="102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476680" y="4693680"/>
            <a:ext cx="179640" cy="30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510520" y="4294800"/>
            <a:ext cx="220320" cy="4176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211560" y="3687480"/>
            <a:ext cx="1620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101400" y="4040280"/>
            <a:ext cx="188640" cy="45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V="1">
            <a:off x="3036240" y="4407480"/>
            <a:ext cx="191160" cy="313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V="1">
            <a:off x="3112920" y="4732200"/>
            <a:ext cx="1656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5352840" y="5032080"/>
            <a:ext cx="149760" cy="62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217120" y="5238720"/>
            <a:ext cx="134280" cy="166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3242880" y="5092920"/>
            <a:ext cx="162360" cy="1004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V="1">
            <a:off x="3445560" y="5311440"/>
            <a:ext cx="139320" cy="165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>
            <a:off x="4035240" y="5601240"/>
            <a:ext cx="54000" cy="2088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719960" y="5587560"/>
            <a:ext cx="99360" cy="1897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4975920" y="5441040"/>
            <a:ext cx="98640" cy="193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3717000" y="5482800"/>
            <a:ext cx="111600" cy="1864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4032360" y="3906720"/>
            <a:ext cx="693360" cy="921960"/>
            <a:chOff x="4032360" y="3906720"/>
            <a:chExt cx="693360" cy="921960"/>
          </a:xfrm>
        </p:grpSpPr>
        <p:sp>
          <p:nvSpPr>
            <p:cNvPr id="201" name="Freeform 35"/>
            <p:cNvSpPr/>
            <p:nvPr/>
          </p:nvSpPr>
          <p:spPr>
            <a:xfrm>
              <a:off x="4106520" y="3909960"/>
              <a:ext cx="542160" cy="15048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4032360" y="4161240"/>
              <a:ext cx="644040" cy="1656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4047480" y="4411800"/>
              <a:ext cx="678240" cy="1800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4132800" y="4662360"/>
              <a:ext cx="543600" cy="16632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>
              <a:off x="4064760" y="3906720"/>
              <a:ext cx="449280" cy="3200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>
              <a:off x="4126320" y="4123080"/>
              <a:ext cx="508320" cy="3733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4126320" y="441036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4102200" y="3951360"/>
            <a:ext cx="691560" cy="921960"/>
            <a:chOff x="4102200" y="3951360"/>
            <a:chExt cx="691560" cy="921960"/>
          </a:xfrm>
        </p:grpSpPr>
        <p:sp>
          <p:nvSpPr>
            <p:cNvPr id="209" name="Freeform 43"/>
            <p:cNvSpPr/>
            <p:nvPr/>
          </p:nvSpPr>
          <p:spPr>
            <a:xfrm>
              <a:off x="4176000" y="3954600"/>
              <a:ext cx="540720" cy="15048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>
              <a:off x="4102200" y="4205880"/>
              <a:ext cx="642600" cy="1656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4117320" y="4456440"/>
              <a:ext cx="676440" cy="1800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4202280" y="4707000"/>
              <a:ext cx="542160" cy="16632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4134600" y="3951360"/>
              <a:ext cx="446760" cy="320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4196160" y="4167720"/>
              <a:ext cx="506880" cy="3733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4196160" y="445500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6" name="Oval 50"/>
          <p:cNvSpPr/>
          <p:nvPr/>
        </p:nvSpPr>
        <p:spPr>
          <a:xfrm>
            <a:off x="3967200" y="3989520"/>
            <a:ext cx="146160" cy="1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51"/>
          <p:cNvSpPr/>
          <p:nvPr/>
        </p:nvSpPr>
        <p:spPr>
          <a:xfrm flipH="1" flipV="1">
            <a:off x="2651040" y="3846240"/>
            <a:ext cx="1346400" cy="23004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3419640" y="2262240"/>
            <a:ext cx="1215720" cy="17827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53"/>
          <p:cNvSpPr/>
          <p:nvPr/>
        </p:nvSpPr>
        <p:spPr>
          <a:xfrm flipH="1">
            <a:off x="5594040" y="2909880"/>
            <a:ext cx="32076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54"/>
          <p:cNvSpPr/>
          <p:nvPr/>
        </p:nvSpPr>
        <p:spPr>
          <a:xfrm flipH="1">
            <a:off x="4956120" y="2981160"/>
            <a:ext cx="959040" cy="10828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55"/>
          <p:cNvSpPr/>
          <p:nvPr/>
        </p:nvSpPr>
        <p:spPr>
          <a:xfrm flipH="1">
            <a:off x="4635000" y="2981160"/>
            <a:ext cx="1279800" cy="578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56"/>
          <p:cNvSpPr/>
          <p:nvPr/>
        </p:nvSpPr>
        <p:spPr>
          <a:xfrm>
            <a:off x="2203560" y="2984400"/>
            <a:ext cx="14580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7"/>
          <p:cNvSpPr/>
          <p:nvPr/>
        </p:nvSpPr>
        <p:spPr>
          <a:xfrm>
            <a:off x="1949400" y="290988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58"/>
          <p:cNvSpPr/>
          <p:nvPr/>
        </p:nvSpPr>
        <p:spPr>
          <a:xfrm>
            <a:off x="1820880" y="332100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59"/>
          <p:cNvSpPr/>
          <p:nvPr/>
        </p:nvSpPr>
        <p:spPr>
          <a:xfrm>
            <a:off x="2266920" y="3125880"/>
            <a:ext cx="384120" cy="7207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60"/>
          <p:cNvSpPr/>
          <p:nvPr/>
        </p:nvSpPr>
        <p:spPr>
          <a:xfrm flipH="1" flipV="1">
            <a:off x="5340240" y="4854600"/>
            <a:ext cx="641520" cy="216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 flipH="1" flipV="1">
            <a:off x="4443120" y="5862600"/>
            <a:ext cx="384120" cy="432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41:20Z</dcterms:modified>
  <cp:revision>3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